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670917"/>
        <c:axId val="52728397"/>
      </c:barChart>
      <c:catAx>
        <c:axId val="856709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728397"/>
        <c:crosses val="autoZero"/>
        <c:auto val="1"/>
        <c:lblAlgn val="ctr"/>
        <c:lblOffset val="100"/>
        <c:noMultiLvlLbl val="0"/>
      </c:catAx>
      <c:valAx>
        <c:axId val="527283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6709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907B-2325-4BA9-A50C-1DC6DC37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F0D5-C3F5-4A4D-B77E-E6F0BDA5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B86D-A251-40B6-84F3-96948143B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6F07-C38F-443B-8D67-F9487035F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9747-355D-4192-9235-AECB53A6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1B8E-87AA-4D03-995B-E6309AD5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9974-65C0-422F-AAA5-DD31E6AB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C4BC-1887-419F-B5C7-DB007CCF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AD4D-260B-479A-9293-D366ECFF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3FA3-0EC8-4250-9BE5-CBA25018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E037-CA87-4F49-89E1-D04A8A63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A9BE-41DD-43D5-8D97-9897EB9F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0A9D7-B0B8-4157-B1B8-281253C62B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