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83BE7F-76B7-40A0-A930-118DDA5BC32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Slide Number Placeholder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15E476-EDD0-4486-A149-958A8FD6BE9C}" type="slidenum">
              <a:rPr b="0" lang="en-US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Footer Placeholder 4"/>
          <p:cNvSpPr/>
          <p:nvPr/>
        </p:nvSpPr>
        <p:spPr>
          <a:xfrm>
            <a:off x="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foot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Header Placeholder 5"/>
          <p:cNvSpPr/>
          <p:nvPr/>
        </p:nvSpPr>
        <p:spPr>
          <a:xfrm>
            <a:off x="0" y="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is the header text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81F2E-9E52-4C60-9015-BF4B08FFB33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1F2CC-07DB-4881-8661-BAFD092711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739D5-2482-47A5-985C-CA99788CBDD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BB7FD7-B522-499B-B842-E3C8272FF0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AA939-3A35-43E2-8A05-D6F4080ACF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4A96DB-D625-4DE6-A661-EDF7844B55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06578-FFFE-4711-B515-371AEF8C55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21494-59B3-4948-AAA3-0A5BD19BFB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D2897-4482-4B73-8AC7-B325125326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0627AC-C863-44D2-B67E-E3CF0EE4C0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29E6C-8D9C-4D5D-B22C-E2148672A4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D1A5A-31B5-4E86-82E9-7428748AA1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83DC72-431B-49D9-8B49-9B4B6A5D1F9E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531800" y="3236760"/>
          <a:ext cx="6080400" cy="384480"/>
        </p:xfrm>
        <a:graphic>
          <a:graphicData uri="http://schemas.openxmlformats.org/drawingml/2006/table">
            <a:tbl>
              <a:tblPr/>
              <a:tblGrid>
                <a:gridCol w="2027520"/>
                <a:gridCol w="2025360"/>
                <a:gridCol w="2027520"/>
              </a:tblGrid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1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9260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1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2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lnSpc>
                          <a:spcPct val="115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Calibri"/>
                          <a:ea typeface="Times New Roman"/>
                        </a:rPr>
                        <a:t>Row 2 Col 3</a:t>
                      </a:r>
                      <a:endParaRPr b="0" lang="en-US" sz="1100" spc="-1" strike="noStrike">
                        <a:solidFill>
                          <a:srgbClr val="000000"/>
                        </a:solidFill>
                        <a:latin typeface="Calibri"/>
                      </a:endParaRPr>
                    </a:p>
                  </a:txBody>
                  <a:tcPr anchor="t" marL="68760" marR="6876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-456840" bIns="-45684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Text Box 1"/>
          <p:cNvSpPr/>
          <p:nvPr/>
        </p:nvSpPr>
        <p:spPr>
          <a:xfrm>
            <a:off x="3089160" y="1720800"/>
            <a:ext cx="2914920" cy="261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text box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Rectangle 3"/>
          <p:cNvSpPr/>
          <p:nvPr/>
        </p:nvSpPr>
        <p:spPr>
          <a:xfrm>
            <a:off x="2458800" y="-3280320"/>
            <a:ext cx="4226040" cy="747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14040" rIns="914040" tIns="914040" bIns="91404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otnote appears here</a:t>
            </a:r>
            <a:r>
              <a:rPr b="0" lang="en-US" sz="11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old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i="1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italic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u="sng">
                <a:solidFill>
                  <a:srgbClr val="000000"/>
                </a:solidFill>
                <a:uFillTx/>
                <a:latin typeface="Calibri"/>
                <a:ea typeface="Times New Roman"/>
              </a:rPr>
              <a:t>underline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30000">
                <a:solidFill>
                  <a:srgbClr val="000000"/>
                </a:solidFill>
                <a:latin typeface="Calibri"/>
                <a:ea typeface="Times New Roman"/>
              </a:rPr>
              <a:t>superscript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 baseline="-30000">
                <a:solidFill>
                  <a:srgbClr val="000000"/>
                </a:solidFill>
                <a:latin typeface="Calibri"/>
                <a:ea typeface="Times New Roman"/>
              </a:rPr>
              <a:t>subscript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numbered lis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buClr>
                <a:srgbClr val="000000"/>
              </a:buClr>
              <a:buFont typeface="Calibri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Number bullet 3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Keyword1 Keyword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This is a hyperlink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 </a:t>
            </a: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bject is here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Suddenly some Japanese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ゾルゲと尾崎、淡々と最期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（ＧＨＱ）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And then some Gothic text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1000" spc="-1" strike="noStrike">
                <a:solidFill>
                  <a:srgbClr val="000000"/>
                </a:solidFill>
                <a:latin typeface="Arial"/>
                <a:ea typeface="Times New Roman"/>
              </a:rPr>
              <a:t>𐌲𐌿𐍄𐌹𐍃𐌺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Here is a citation: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(Kramer)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4f81bd"/>
                </a:solidFill>
                <a:latin typeface="Calibri"/>
                <a:ea typeface="Times New Roman"/>
              </a:rPr>
              <a:t>Figure 1 This is a caption for Figure 1</a:t>
            </a:r>
            <a:endParaRPr b="0" lang="en-US" sz="9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1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1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000000"/>
                </a:solidFill>
                <a:latin typeface="Calibri"/>
                <a:ea typeface="Times New Roman"/>
              </a:rPr>
              <a:t>Row 2 column 2</a:t>
            </a: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100"/>
            </a:br>
            <a:endParaRPr b="0" lang="en-US" sz="11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1800"/>
            </a:b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Rectangle 4"/>
          <p:cNvSpPr/>
          <p:nvPr/>
        </p:nvSpPr>
        <p:spPr>
          <a:xfrm>
            <a:off x="0" y="457200"/>
            <a:ext cx="3017880" cy="792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38880" bIns="-38880" anchor="ctr">
            <a:spAutoFit/>
          </a:bodyPr>
          <a:p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Rectangle 5"/>
          <p:cNvSpPr/>
          <p:nvPr/>
        </p:nvSpPr>
        <p:spPr>
          <a:xfrm>
            <a:off x="3967200" y="570600"/>
            <a:ext cx="1209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 baseline="30000">
                <a:solidFill>
                  <a:srgbClr val="800080"/>
                </a:solidFill>
                <a:uFillTx/>
                <a:latin typeface="Calibri"/>
                <a:ea typeface="Times New Roman"/>
              </a:rPr>
              <a:t>[1]</a:t>
            </a:r>
            <a:r>
              <a:rPr b="0" lang="en-US" sz="1000" spc="-1" strike="noStrike">
                <a:solidFill>
                  <a:srgbClr val="000000"/>
                </a:solidFill>
                <a:latin typeface="Calibri"/>
                <a:ea typeface="Times New Roman"/>
              </a:rPr>
              <a:t> This is a footnote.</a:t>
            </a:r>
            <a:endParaRPr b="0" lang="en-US" sz="1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09-05T13:54:41Z</dcterms:created>
  <dc:creator>Michael McCandless</dc:creator>
  <dc:description/>
  <cp:keywords>Keyword1 Keyword2</cp:keywords>
  <dc:language>en-US</dc:language>
  <cp:lastModifiedBy>Michael McCandless</cp:lastModifiedBy>
  <dcterms:modified xsi:type="dcterms:W3CDTF">2011-09-05T14:25:28Z</dcterms:modified>
  <cp:revision>6</cp:revision>
  <dc:subject>Subject is here</dc:subject>
  <dc:title>Slide 1</dc:title>
</cp:coreProperties>
</file>